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AC64-A0C0-47A1-AE22-0C241FFDB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DE1C-0AB8-4394-BAB1-F024453C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CBE3-648E-4B0C-ACCF-C6C0EE421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3405-BEE1-4769-A83A-224745D09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4B2A-9879-4D2A-91B9-245609FC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2385-CF1C-4778-91EE-56DB66EC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C00E-7093-4EC2-B9A7-2E81F302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ABE7-6D9C-463B-AB52-D7172954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91C9-F16D-4FA4-A09A-34E54F6C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638F-B87E-48FC-819E-D1ACA5C2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B7A6-437E-426D-BED0-6C29EA9A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CFC9-2431-413F-B212-A878A633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7809-9CB3-426C-8317-E58F9127B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esarean 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/history – named for Julius Cae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by is delivered through an incision made in the abdomen/ute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s for C-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phalopelvic dispro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vix not fully dia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usual baby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tal di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nta blocking uterus or falling out before ba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72000" y="2747880"/>
            <a:ext cx="291492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ech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t or buttocks facing down a.k.a. coming out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angerous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 – a procedure the doctor does to turn the baby while in the womb so they are head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gar T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– 1952 Dr. Virginia Apgar created this test to evaluate newborn response within the first 5 minutes after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590920"/>
            <a:ext cx="352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areas  – heart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spiratory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uscle 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flex irr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2590920"/>
            <a:ext cx="4647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d  0-2 (2 being high sc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ect Score = Not common b/c of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evaluations are performed 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&amp; 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4495680"/>
            <a:ext cx="13161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mature Bi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– delivery of a fetus before it is ready to be bo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Co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the lungs are not fully developed so the infant cannot breathe on its own (eye problems often occu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24 weeks = non-viable (cannot survive on its ow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carri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– The expulsion of a dead embryo or fetus from the ute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 causes: genetic defect, mother’s illness or drug use.  Often occurs in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imester, sometimes before mother knows she is pregnan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-20% of all pregnancies end in miscarri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bi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rth of a dead, full-term fetus (usually caused by physical injury to the fet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gnancy Not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th 2 pm - 3 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0T18:36:37Z</dcterms:created>
  <dc:creator>PA Department of Education</dc:creator>
  <dc:description/>
  <dc:language>en-US</dc:language>
  <cp:lastModifiedBy>PA Department of Education</cp:lastModifiedBy>
  <dcterms:modified xsi:type="dcterms:W3CDTF">2008-06-20T18:37:16Z</dcterms:modified>
  <cp:revision>1</cp:revision>
  <dc:subject/>
  <dc:title>Caesarean Section</dc:title>
</cp:coreProperties>
</file>